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9EA-234A-4B1D-B4E7-C0393B6A8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06D-0911-4502-9479-186C1D3A1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216-0CF9-402B-9C85-B4319AF2B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17AF-4741-4E71-840D-4FFE3639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84D1-5D1D-4004-9906-BE5ABF7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EB58-B816-4649-8B06-9CD6D122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0D94-8BE8-4700-81E3-D83DC31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124-EA1B-4DF4-A5B2-1D74CEFC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91B6-1A2A-42CE-A871-DD8B370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670-9544-4D0B-A3A1-A190148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B88-9F6B-4AD3-95EC-F805010B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81A-95F6-4C94-8EA6-058A0718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8A9D-985F-4AD5-9609-B0F587B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EDEC-8E22-4026-A377-153E034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B0C7-1AFA-47FA-B9E1-A245811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369-06D4-41A3-A4B8-69B18B1F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EC97-310B-4520-A1FE-99BCA75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3AD6-FB1F-4875-B8EC-0A8F0792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E6F-7278-4C2D-AA6C-4163AE8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8A2E-931D-44BB-9AC5-C74B0377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AA64-6073-46D3-BCD9-2B151BC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3C43-0A04-4B67-9D6D-96F45D0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DB5E-BA82-4049-A720-3AD90D5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CECF-1B33-4278-9034-2B10FCD3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2ACA-A3A7-4E50-948D-6091670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EC27-0CAE-4F49-95F7-140B6A8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B11B-EB4F-4062-AA7E-01FF094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D0D1-C5F1-4903-91E8-D7A82249C0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226-E624-43F4-9874-DF6EAC57D9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3280" y="1773000"/>
            <a:ext cx="65167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граничение доступа детей к информации, причиняющей вред их здоровью и развитию и к противоправ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043080" y="4437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айгородов Е.В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директ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:\Мои документы\АКИАЦ\Структура\Логотип\итоговый вариант\Знак АКИАЦ градиент.jpg"/>
          <p:cNvPicPr/>
          <p:nvPr/>
        </p:nvPicPr>
        <p:blipFill>
          <a:blip r:embed="rId1"/>
          <a:stretch/>
        </p:blipFill>
        <p:spPr>
          <a:xfrm>
            <a:off x="6804000" y="85680"/>
            <a:ext cx="2232000" cy="843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009960" y="836640"/>
            <a:ext cx="59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ГБУО «Алтайский краевой информационно-аналитический центр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5838840" y="4433760"/>
            <a:ext cx="30844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578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Замечания по  ограничению доступа к информации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32A-7563-417C-91BC-C23E30F4B7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41264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имаются в полном объём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е и технические ме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щиты несовершеннолетних от запрещенной информации, размещённой в сети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ламенты по работе педагогов и учащихся в сети Интерн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 незаконные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е определены виды информации, доступ к которой ограничивается, неправомерно установлена ответственность за административные правонарушения в виде предупреждения или лишения специального пра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ы содержат рекламу эротического содержания, а также рекламу азарт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контентной фильтрации в образовательных учреждениях, в не обеспечивает полной защиты от доступа к запрещенным Интернет-рес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6012000" y="5164200"/>
            <a:ext cx="2232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Ответственность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2F2-0223-4247-B674-9AAF91815D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19664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ь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6.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рушение законодательства Российской Федерации о защите детей от информации, причиняющей вред их здоровью и (или) развитию (КоАП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Нарушение установленных требований распространения среди детей информационной продукции, содержащей информацию, причиняющую вред их здоровью и (или) развитию, если это действие не содержит уголовно наказуемого деяни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ечет наложение административного штрафа на граждан в размере от двух тысяч до трех тысяч рублей с конфискацией предмета административного правонарушения;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должностных лиц - от пяти тысяч до десяти тысяч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на юридических лиц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т двадцати тысяч до пятидесяти тысяч рубле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онфискацией предмета административного правонарушения или административное приостановление деятельности на срок до девяноста су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еприменение лицом, организующим доступ к распространяемой посредством информационно-телекоммуникационных сетей (в том числе сети "Интернет") информации в местах, доступных для детей, административных и организационных мер, технических, программно-аппаратных средств защиты детей от информации, причиняющей вред их здоровью и (или) развитию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ечет наложение административного штрафа;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юридических лиц - от двадцати тысяч до пятидесяти тысяч рубле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уляторы –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оскомнадзо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ы прокура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6012000" y="5164200"/>
            <a:ext cx="2232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43280" y="1773000"/>
            <a:ext cx="65167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916360" y="8366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ГБОУ «Алтайский краевой информационно-аналитический центр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3080" y="4437000"/>
            <a:ext cx="62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www.akia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office@akia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3852)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9-44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23200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6588000" y="4460760"/>
            <a:ext cx="22320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360" y="69228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Правовая основа контентной фильтрации и ограничения доступа 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F98-F4D7-4B28-8A0E-89C9776939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62864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Федеральный закон от 27.07.2006 года N 149-ФЗ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информации, информационных технологиях и о защите информ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едеральный закон от 25.07.2002 N 114-ФЗ (ред. от 02.07.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О противодействии экстремистской дея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 от 24.07.1998 N 124-ФЗ (ред. от 02.12.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Об основных гарантиях прав ребенка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Федерального закона от 29.12.2010 № 436-Ф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5684760" y="4595760"/>
            <a:ext cx="2575080" cy="192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2416320" y="4473720"/>
            <a:ext cx="2957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5200" y="119700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лассификация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N 114-ФЗ"О противодействии экстремистской деятельности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E2C4-7F82-44CE-AA83-13D6AA80DE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84428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кстремистской информации относитс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ывающая к осуществлению экстремистской деятельности либо обосновывающие или оправдывающие необходимость осуществления так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ы руководителей национал-социалистской рабочей партии Германии, фашистской партии Итал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и, обосновывающие или оправдывающие национальное и (или) расовое превосходство либо оправдывающие практику совершения военных или иных преступл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и, направленные на полное или частичное уничтожение какой-либо этнической, социальной, расовой, национальной или религиоз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й список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://minjust.ru/extremist-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227640" y="5154480"/>
            <a:ext cx="223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5200" y="119700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лассификация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ст. 15 149-ФЗ "Об информации, информационных технологиях и о защите информации"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86F2-E149-40F2-B592-F346774CCB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84428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прещенной для распространения относитс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ов с порнографическими изображениями несовершеннолетних и (или) объявлений о привлечении несовершеннолетних в качестве исполнителей для участия в зрелищных мероприятиях порнографического харак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 о способах, методах разработки, изготовления и использования наркотических средств, психотропных веществ и их прекурсоров, местах приобретения таких средств, веществ и их прекурсоров, о способах и местах культивирования наркосодержащих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 о способах совершения самоубийства, а также призывов к совершению самоубий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 о несовершеннолетнем, пострадавшем в результате противоправных действий (бездействия), распространение которой запрещено федеральными зак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012000" y="5164200"/>
            <a:ext cx="2232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5200" y="980640"/>
            <a:ext cx="8578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лассификация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по 436-ФЗ «О защите детей от информации, причиняющей вред их здоровью и развитию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0BC2-A878-4523-8A93-2356B913B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84428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информации, запрещенной для распространения среди детей, относится информ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побуждающая детей к совершению действий, представляющих угрозу их жизни и (или) здоровью, в том числе к причинен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реда своему здоровью, самоубийств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пособная вызвать у детей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желание употребить наркотические средства, психотропные и (или) одурманивающие вещества, табачные изделия, алкогольную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иртосодержащую продукцию, пиво и напитки, изготавливаемые на его основе, принять участие в азартных играх, заниматься проституцией, бродяжничеством или попрошайничеств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обосновывающая или оправдывающа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пустимость насилия и (или) жесток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бо побуждающая осуществлять насильственные действия по отношению к людям или животным, за исключением случаев, предусмотренных настоящим Федеральным закон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отрицающая семейные цен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формирующая неуважение к родителям и (или) другим членам семь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оправдывающа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тивоправное пове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) содержаща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ецензурную бра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) содержащая информац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рнографического характ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6227640" y="4786200"/>
            <a:ext cx="2467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5200" y="1341000"/>
            <a:ext cx="8578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лассификация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по 124-ФЗ"Об основных гарантиях прав ребенка в Российской Федерации»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58F-1D82-4009-B685-1EAC2169FB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62864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лжны быть защищены от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, пропаганды и агитации, наносящих вред его здоровью, нравственному и духовному 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ой, классовой, социальной нетерп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екламы алкогольной продукции и табачных издел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ропаганды социального, расового, национального и религиозного нерав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информации порнографического харак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информации, пропагандирующей нетрадиционные сексуальные отнош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аспространения печатной продукции, аудио- и видеопродукции, пропагандирующей насилие и жестокость, наркоманию, токсикоманию, антиобществен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162840" y="5373720"/>
            <a:ext cx="2160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5200" y="1341000"/>
            <a:ext cx="8578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лассификация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896-6FDB-4566-856F-B5986716D1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26828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клас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формац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остранение которой запреще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Российской Федерации, независимо от возрастного ценза пользователей информации (114-ФЗ "О противодействии экстремистской деятельности" и 149-ФЗ "Об информации, информационных технологиях и о защите информации«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клас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формация, распространение котор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рещено для отдельных возрастных категорий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ответствии с Федеральным законом от 29 декабря 2010 г. № 436-ФЗ "О защите детей от информации, причиняющей вред их здоровью и развитию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клас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формация, распространение котор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преще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Российской Федерации, в том числе среди детей, 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 к которой может быть ограниче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бразовательной организации в связи с тем, что данная информация не соответствует задачам образования и воспитания и не имеет отношения к образовате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6162840" y="5373720"/>
            <a:ext cx="2160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5200" y="1341000"/>
            <a:ext cx="8578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Требования к ограничению доступа 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к  запрещенной информации</a:t>
            </a:r>
            <a:br>
              <a:rPr sz="2800"/>
            </a:b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049-3921-4F4C-AEB1-258247AD75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62864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о статьей 14 Федерального закона № 436-ФЗ доступ детей к информации, распространяемой посредством информационно-телекоммуникационных сетей, в том числе сети Интернет, в местах, доступных для детей, предоста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м, организующим доступ к сети Интернет в таких местах другим лиц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условии применения административных и организационных мер, технических, программно-аппаратных средств защиты детей от информации, причиняющей вред их здоровью и (или) развит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им образом, образовательные организации, предоставляющие детям доступ к сети Интернет, обязаны применять указанные выше меры по  защите детей от информации, причиняющей вред их здоровью и (или) разви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6162840" y="5373720"/>
            <a:ext cx="2160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Методы ограничения доступа к информации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981-EDD7-407C-8BFC-988F03F290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26828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ение Правил организации доступа к сети Интернет  в образовательной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начение приказом ответственного за организацию работы с ресурсами сет Интернет и ограничение до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классификации информационной продукции, доступ к которой запрещен (в правилах, либо в отдельных докумен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приказа о недопустимости использования экстремистских материалов в библиотеке образовательной организации, маркировки информационной продукции в библиотеке (выпущенной после 2012 г. и не являющейся учебной и периодическими изда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х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контентной фильтрации (локальные на компьютер, локальные на учреждение, либо глобальные – региональные ре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24000" y="5940360"/>
            <a:ext cx="1871640" cy="70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12000" y="5164200"/>
            <a:ext cx="2232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0:35:26Z</dcterms:created>
  <dc:creator>Кайгородов Е.В.</dc:creator>
  <dc:description/>
  <dc:language>en-US</dc:language>
  <cp:lastModifiedBy>Александр Тупикин</cp:lastModifiedBy>
  <cp:lastPrinted>2012-03-27T02:42:52Z</cp:lastPrinted>
  <dcterms:modified xsi:type="dcterms:W3CDTF">2017-03-18T13:02:35Z</dcterms:modified>
  <cp:revision>183</cp:revision>
  <dc:subject/>
  <dc:title>Слайд 1</dc:title>
</cp:coreProperties>
</file>